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470-0F29-4EB8-9218-F1A3F74C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7A1-5ACF-477D-9090-52E4C735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E771D-AE65-4F06-8DE2-047820D4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B5513-28CB-4A29-B231-B70A2B16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BA18E-150C-42B0-A03D-A2430A76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FCC72-F547-46EB-841A-8D218AC0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0C029-C47B-452C-9EC5-AC65CD01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25266-CB01-47B4-B51B-56BF4170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4BAFC-C956-4C85-AADE-827DFBDE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3AE7F-F5A7-4CDB-BD14-18BAFD10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D6053-8D94-45D7-9416-2132D009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2621B-BF83-4C52-9442-976BB4DF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570-7DC7-4E80-8F6C-84259CEC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78638-7D9B-4037-84DE-7324B6FB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69D3F-1187-44DA-A573-F7A10DB9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802AD-D8B1-4216-8A4E-DB4F7EF7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744B3-25FF-4FA9-9054-3ADAC4D0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AC17A-1186-4CCA-847B-98817B4C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8C70E-E46F-4635-85C6-3D0A2B6A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BC7FF-2081-465A-B91F-1952F24A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C4244-F7CE-4EC3-AB89-A5BC9DF0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95260-1BD2-4858-9814-B31C80F5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44174-54FC-4584-AE0D-96F08285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A7A-5DA9-4833-A1E2-0233065D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19242-7B1A-46BD-B773-487868D3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FB4F1-FC9C-4D43-BA41-668626FC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0D2A4-A21A-4A20-A40A-CE1F1FA7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E2677-6349-4D6B-A1AA-6090464D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2693A-1C7C-4AF6-AA7C-418B5601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0DB56-1497-426B-A929-D9503196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87FC8-5903-47F7-9E5F-52D705D4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07732-DFA4-4B7C-99D0-0F5F62F7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1F512-7725-467C-8468-2279C773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8C156-8086-498A-A132-77D662AB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CD80-DE4A-459E-8B57-99BFC76C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E91E1-9E63-431B-82C6-EEFDE452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E6B7A-BEB1-4163-B621-474F3E80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8471E-FCA9-49D1-ACF0-2D0C38EF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6BE3B-AC9B-4A4E-9A10-FCFE3E1C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14B28-3DCB-4F93-A241-48508247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34559-740C-4107-841F-F4924545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B5634-EA7B-411A-B320-B19DF3AB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BBB91-6385-47D4-B11E-4EA6EC27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A3B22-C813-47D5-89B9-68C21E54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15F28-10F9-4352-A26D-36C688CE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B940-ADC6-49E3-9C28-10BA46EF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13C64-96B8-48CB-BA72-688B8BC5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7755A-89A5-4533-A096-B4026E67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C003A-90D7-4958-8180-E1D3A30A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941B5-A3BE-49F5-83BF-2146D86C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B83C6-82E8-486C-8B6B-C81482AF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43186-5553-4939-A8AF-5A9D2A2C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E36E3-1192-456C-BC9B-656AB41D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A31FA-90FE-4E47-B3F5-C9F8119C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4CCF3-719B-4C2D-B6CF-04C82418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1F9A3-00D6-430D-BA1F-94A88678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8E00-3878-4C2E-818C-64215D94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796D15-D938-47DD-9F68-5C0E30BF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F1EF6-24CF-4112-AB84-22F11CB9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131CB-D09F-4E7A-86BA-62754D3F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8286A-315E-492E-B013-2921AC5E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8B647-CE4B-4FAB-AB5A-92CBED0D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0691AE-5799-4328-BDCC-00841C89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A7667-A86B-4B20-A60A-E81DE9E5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A4550-4262-4C11-9DCD-1748D299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B8EE65-64B3-40F9-8E8F-ACE894C6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5D818-8584-4FC4-AE1C-82BC3EC5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BE62-4793-45C1-A4B9-84E9EC79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F38DE-A815-4BC7-A2F8-C0DF05D7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F6F89-E005-412E-AC80-B807EA16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C516A4-96C2-4815-A04A-7851CAD1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F7ED4-6FB3-4563-B3D7-3C3AC5A7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8B0CC-3D43-494F-8031-55C18081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DBFCFA-4581-4BA1-BB07-8D28CE4B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613166-D29F-4108-96C4-E7F6DC0C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D6C0EB-4BE6-4C34-94E5-ED1714D9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6C1B26-4575-42C8-BA6A-613ECAD2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954D97-18E8-4989-91E7-C68F386C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6A28-8426-4167-862D-A4BE063D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BC3371-D8A4-4204-839C-AC0CFDF9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E8BD1A-FBF9-46DC-BB31-37BE9CDF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3FA27C-C344-4310-8925-F553E5EA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0FBE83-4027-4D4F-9943-1FF98407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94C5B-46D0-4E50-BE30-7D9DD8A3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6D6DC2-8771-4DCB-AEC2-7DD1A717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275A82-3A63-4EBA-B986-092A1BD5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EC1E15-7864-472C-ABEB-CE6934C8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90A07A-AD98-4A33-8DA1-07B2F85E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F9B5D1-B4B2-4D09-8525-D204D47B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CAFC-73D9-40E6-83F1-F3D484A4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FE36D6-37EC-4C77-960C-FDCBCB30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7AE0A-A65D-4D43-8C11-649F40CE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CD8540-8BB7-47B3-8DB7-57522AE1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31CA3B-0C7A-4F3E-8B1D-F06FC045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1ADAEB-1C12-42D6-A159-783B58E1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79E22B-279A-4D20-8A3B-3418BEAF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84DA43-8FCB-42F8-90FA-EA033FFD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F68E22-B845-4536-B891-86CDAC4A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48623-6B3F-40D3-B52B-BAB39D6F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A9F0BF-9324-4900-9C52-01B2BFEC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6C82-8B2F-4C6A-9C95-66EB9F5F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87AC9-CE2A-43F3-9D7E-09573F8B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8761B-E899-459E-A392-7149CB67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39736C-AC90-4421-930D-A22C7F2A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486976-0DC0-489F-9365-A67FE8C3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C8F4E-6D4F-4906-8309-3A80D956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8BFBA2-5611-454B-AC87-66B514B9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64C64F-07A6-4C4D-B6D1-93DBFFE8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791432-A0E5-4B3F-9F1B-A6217172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493F4D-BA8F-459B-85F6-EB461E26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CBC6A2-DC03-4DCF-AC7A-75EE60AD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55B-AFF5-48ED-B5CF-9311D3B2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F303-8C4F-46B1-81D3-5D7E7F9F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7A1BD7-9084-421A-8AB3-E56B9A64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21208-35CE-4350-A48F-DBC1AEFE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4FCA5-AC57-4204-9FB2-C9C909FD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EB6876-13AF-41B3-A5E4-E4ADB49A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B429C1-0A4E-413D-A32A-585A101F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C17CD8-6F3F-4057-8C78-C1F5DA83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8E1CFC-1EA2-4219-8FDE-AF2C2193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D55C88-4144-4743-8D4E-6734BA0B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26F520-6F00-4833-B6F8-B7E3710E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F3DDB5-0113-4E68-B122-14D767D4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126E-FE02-4695-A397-249A5809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6DAC68-3251-4C1D-AFFF-09BFBA8E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5A12B1-875E-481B-8967-F19810A5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A7FA55-468B-4AAE-9C4D-2FF9A0FE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18E820-479E-4839-978D-B6EE0262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9CA251-698E-43DE-94ED-77A55716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B1F383-64BA-4040-A320-2C5C67D0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7EFBE7-3C45-442E-9AF2-73D4EA25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9DC1DE-C270-479C-9AE9-F431B733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8F5D9D-4246-45B1-97AC-07FB46EE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277EF2-3A72-4FEB-929D-991E6DC1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31A6-4E42-4258-950A-B1E068D1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F924FD-A671-43C3-BD57-9B010C3F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C41693-4A6E-48AD-B2E6-937BB1B8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3C0CF5-5B13-481B-A9F8-0156E60E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85FCEE-2E07-452A-BAA2-C665FE15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79A330-917D-4DA2-A131-A69426DB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1821B6-6782-46D4-AABD-6490633F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B9D5BA-1DDF-45E8-A50C-25739BAF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FDDDDD-48B6-4CB5-B3A5-8B7E582C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D4404A-647E-41B7-AA8F-7E630C0A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3A7257-D7DC-48C5-8A2A-1516ED88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1508-F93B-46C9-A9E4-719FDB5B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44F401-00AA-4EF1-A870-7C56A9FB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9BDB02-DD58-4C33-A10B-AF5C8B6A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695015-BA39-4DDD-80D7-0F89C97A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2BD672-03F6-49E2-AB8E-40C59D6F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EB409B-BE34-4489-80D2-AAA77994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BE9443-7C82-45A6-88F6-F23150D9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308DF6-99AD-43D4-A3EF-76E7B466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549F3E-D4CD-4CB2-BC30-CC64F952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7965CB-F049-4A56-9C91-E1D17CAB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BD7A35-4AB4-4040-AA72-2670A136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5DEC-67F7-4ADD-AFB0-35C7222A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CB956F-1B74-4D02-B70B-B6CBC423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51D38A-FE79-48B6-A480-B8F440AA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82CC03-3155-4069-9793-5254EB2B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7F7353-FBBB-4574-B447-BC56AF1A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045854-36E0-4243-AC74-69985B35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D63422-8369-440F-B9AC-4FEE8EE3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A5678D-521C-42F4-9A36-1413B2C4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079148-23F9-4018-824A-694D2C21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B286F9-E709-4934-A8ED-70D05639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A8C7FE-8F20-4A07-928E-DD423749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30961-7988-437D-A26A-B9A62A73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578FD5-2275-4987-9CD5-F2E53406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0AFEC1-C666-42A7-A41E-2CA49B3D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845ED3-E1BF-4D71-A3AB-349DBECE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C530A-9B0B-4A77-B0AF-1E78285E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AF5DE-7763-48F8-A98B-41DDB5C0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D6A12-6E83-4738-90C6-2F7BDAE5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1F1ED-DDD0-4579-A5C4-34150877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CC2-E079-44E7-B7C6-4974AEFD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8C7A0-2F3C-474B-B9B6-99853BC7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F51F1-1AC3-4E06-8805-A022590A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C145A-801C-489B-905F-7082C8D7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EC3D8-3B9A-48C7-A25D-AF25A5FF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CC08-3FEC-4840-B4B3-38929166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16BAB-868C-44B1-A0F6-73C77A70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41210-10EB-43BF-9AC8-B860D330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43041-7CA1-4566-82C2-31700E0A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A4783-1A06-45B1-B83D-442E2E4F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F2AE5-8D67-4135-9427-46FD5A19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C1B-3BE3-4971-8D33-E4CFC861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E5F77-F4C6-4385-AB28-836F3E3F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8CF0-A8C0-4C75-8187-8990C7A4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0B56B-716E-4767-B53E-72E19C74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0F371-2BDA-44FE-8621-94D6A857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DE125-886B-4AB3-94CF-A2725C90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F73E2-CB1C-403B-BA70-B171C188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F192A-EA61-4247-960E-2B6A788B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8EE0E-B7BF-47C4-AE9C-74D4FCEA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52C9D-F8B4-4D53-AA39-10E561BB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F7A4D-B7AC-4F73-8C43-FEDCCCB5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3112-AA4A-46D9-BAFA-FB45539A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76C6B-CAEE-4221-82AC-6CBE8588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F80D2-0CF2-4DE8-A8CB-E885BEB2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402BC-AB6A-46C0-B42A-3AB793FE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ECF41-06D9-4859-A2DD-D06F78F8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ECD4B-71CD-4874-A978-790335B1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A2825-736A-4802-909E-4781A63F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BB6B0-5F59-439E-94DE-F89D6A15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0701F-31FE-41DD-8F6C-CC9EB0C5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DBEB2-46DA-42D6-B1A2-FA52CEF4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89F6C-4D74-4EAE-9EDA-020E892A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71D-8502-4530-B905-53A4844B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F0667-4948-4572-924F-0E205086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A663F-96DC-46C9-952F-22509F8E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87B65-D151-4921-90FB-F9839AC3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6ACC1-6F3B-4144-8A98-13D6124F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E64F0-96A7-4407-B65F-F5A3FEF6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0784D-48E9-43E9-82AE-80410EBA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BF3DC-A732-4742-9ABF-04FD53C3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30FB5-0727-43F8-B02A-1CFAE2ED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8D740-DAA8-461E-B94F-A0C6F4CA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8AE3D-C2D3-4425-ABF6-9993ADDF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5D9-0AA4-44CE-9205-6EAEB299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B0C4C-C0FB-462E-907E-910EF416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22D57-CA5A-43CA-80ED-4F7699C0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79E29-8D78-4EBD-B6F7-B4CDB2FB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9118E-355C-41F7-A82F-0FB613BD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9F7CD-FD27-44D7-8D12-F3207D7D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981E1-0E71-4987-90AE-2D5803F1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F72AF-7757-434A-AD76-6692D61A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825B7-C3D2-4A7A-8744-A06DC270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262C2-30A0-4023-9B82-D0FD2D44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5A3BF-8387-43E6-9933-F8B4A07B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1CC-4247-4002-A196-F97ACE68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B5871-C8FA-434A-A962-9EC0BC3F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86D03-9993-445D-9036-D7B2EE2B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4773E-E6E5-4B42-93F6-5048F077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B917D-4461-4C78-8266-C326DB66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65040-9947-41D2-A708-36D4AEFD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1D3DE-52ED-423F-9EE8-33FB1DD8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1B2BC-8ADA-4A0B-B403-CA9F1A94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08EB4-2BC3-4F3F-96AA-D59C770A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712D1-1DC9-4677-AED5-1EBFEB75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32D7D-71FB-4B60-8A06-AB0DD01F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91A-6522-4388-A36F-402026EC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16B10-5CB4-40E8-8A79-D9EC1004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DD529-1B0D-4DE6-BDF3-E26EF854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AB833-691E-408D-B438-AF5A2EF8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FD298-8A32-4F2A-9041-0B876280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5DF66-39DF-40A0-A59E-4FECC5E7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D884C-4C5F-4B44-ADFA-97C51573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19315-E8A8-4FC3-BC1D-BE3CAF3F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5CC1C-3A4A-4418-A7CB-F384F8DC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14330-8C52-4D23-919A-0F6B0472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41AC6-C05B-4651-93B2-D7C856BA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5EBE-E683-4785-981A-20FCE6F33A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E6F3-8F8C-4E2F-9E00-5A08A8D8EC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CE84-91B5-482D-AB00-CBC2E828AA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A863-63CA-4677-B5B8-0AFD608272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9A79-BC7C-4FDD-9466-2631B4661E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7A50-E97D-40A3-9744-0FF1FF723F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3C9A-75C8-4CE2-AACF-983417E111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7618-32C7-430A-9AFF-CD85EC3671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1F3B-7E6A-47C0-AC7B-B4CAC98CC3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E140-3E41-46B6-9F12-F6DBA07C87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4CCF-2EE5-4445-8472-89BBD99C96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4D02-FE4C-476E-BCAF-A9465D8072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4BA4-30AF-4627-A6BB-916DBFAFB3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A272-81BB-4378-BAAB-336164215D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E540-8457-49A0-9A61-6D1D07B9DE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C451-2E2D-4BB0-9D71-62545D7A3E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65A8-E7CE-4507-B20C-31CDD2B85B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AFDD-D7AE-4D44-A7D0-D4114BFC75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B6F8-3740-4B3C-AEE7-33E36211A2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121F-E647-4D9B-8A68-6BEC578C0E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8C0D-D332-434C-9213-6B86593D15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A69C-0D4D-4FA9-ACD4-721B8C38F4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13DB-89BA-4722-90B0-2958D3AE8F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F374-A86A-4D95-92A5-2ED9759E24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8DD7-5864-4B01-BB8F-1617981D0D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F955-F3AE-453D-BAD9-B7BBF42D27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CC7B-24BF-4709-BA02-A7B9E48C44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447D-A29C-4CAF-9734-818EF7D518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57CF-E9B6-4750-BBA9-9CE81DE879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39C2-9D59-4AAB-83E7-C530A9F4AC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64F8-4620-4816-93CB-4F2991F338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2E5A-4FE1-4F6B-A624-0DC2B0086E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F227-E72B-4F93-8229-D15DC45BF3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813C-40E4-49BA-914A-D11E54F634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ACC5-993F-4A2D-A1BE-1CAD4404C6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7404-0D4A-4064-AF38-C41EEFE062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A3F5-5569-4D3F-A6B2-C0D1FA9D0E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65A6-FFDA-4FE7-9D6D-0F36872203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3E6E-9988-4B19-831D-13E0CD30B7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DF76-3836-4CBD-9A53-A06D091C9A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92360" y="1662120"/>
            <a:ext cx="5715000" cy="11905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396720" y="3602160"/>
            <a:ext cx="820764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69633" descr=""/>
          <p:cNvPicPr/>
          <p:nvPr/>
        </p:nvPicPr>
        <p:blipFill>
          <a:blip r:embed="rId1"/>
          <a:stretch/>
        </p:blipFill>
        <p:spPr>
          <a:xfrm>
            <a:off x="919080" y="1052640"/>
            <a:ext cx="7305840" cy="47527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7020000" y="250668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7034040" y="5013360"/>
            <a:ext cx="100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68609" descr=""/>
          <p:cNvPicPr/>
          <p:nvPr/>
        </p:nvPicPr>
        <p:blipFill>
          <a:blip r:embed="rId1"/>
          <a:stretch/>
        </p:blipFill>
        <p:spPr>
          <a:xfrm>
            <a:off x="304920" y="1152360"/>
            <a:ext cx="8534160" cy="45532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2"/>
          <a:stretch/>
        </p:blipFill>
        <p:spPr>
          <a:xfrm>
            <a:off x="755640" y="436572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3"/>
          <a:stretch/>
        </p:blipFill>
        <p:spPr>
          <a:xfrm>
            <a:off x="684360" y="5113440"/>
            <a:ext cx="5184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81160" y="704880"/>
            <a:ext cx="8581680" cy="54482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627280" y="54738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5954760" y="44085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5105520" y="548784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00120" y="2119320"/>
            <a:ext cx="7943760" cy="26193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4067280" y="2162160"/>
            <a:ext cx="122544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5076720" y="3011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2556000" y="352908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3419640" y="409104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595440" y="1209600"/>
            <a:ext cx="7953120" cy="44388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124000" y="2205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3419640" y="292428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5580000" y="2909880"/>
            <a:ext cx="230508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2124000" y="36878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5867280" y="367344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3348000" y="4379760"/>
            <a:ext cx="151128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8"/>
          <a:stretch/>
        </p:blipFill>
        <p:spPr>
          <a:xfrm>
            <a:off x="6386400" y="44085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9"/>
          <a:stretch/>
        </p:blipFill>
        <p:spPr>
          <a:xfrm>
            <a:off x="2050920" y="5127480"/>
            <a:ext cx="158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7352" descr=""/>
          <p:cNvPicPr/>
          <p:nvPr/>
        </p:nvPicPr>
        <p:blipFill>
          <a:blip r:embed="rId1"/>
          <a:stretch/>
        </p:blipFill>
        <p:spPr>
          <a:xfrm>
            <a:off x="314280" y="838080"/>
            <a:ext cx="8515440" cy="5181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4788000" y="2722680"/>
            <a:ext cx="309708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4788000" y="3616200"/>
            <a:ext cx="30970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4788000" y="4451400"/>
            <a:ext cx="309708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4773600" y="5300640"/>
            <a:ext cx="309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6324" descr=""/>
          <p:cNvPicPr/>
          <p:nvPr/>
        </p:nvPicPr>
        <p:blipFill>
          <a:blip r:embed="rId1"/>
          <a:stretch/>
        </p:blipFill>
        <p:spPr>
          <a:xfrm>
            <a:off x="299880" y="1238400"/>
            <a:ext cx="8544240" cy="43812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379440" y="3573360"/>
            <a:ext cx="1700280" cy="20163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2484360" y="2881440"/>
            <a:ext cx="129564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4830840" y="3716280"/>
            <a:ext cx="1743120" cy="20163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6977160" y="2924280"/>
            <a:ext cx="129528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6"/>
          <a:stretch/>
        </p:blipFill>
        <p:spPr>
          <a:xfrm>
            <a:off x="2065320" y="3573360"/>
            <a:ext cx="2146320" cy="20163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7"/>
          <a:stretch/>
        </p:blipFill>
        <p:spPr>
          <a:xfrm>
            <a:off x="6573960" y="3716280"/>
            <a:ext cx="25700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5300" descr=""/>
          <p:cNvPicPr/>
          <p:nvPr/>
        </p:nvPicPr>
        <p:blipFill>
          <a:blip r:embed="rId1"/>
          <a:stretch/>
        </p:blipFill>
        <p:spPr>
          <a:xfrm>
            <a:off x="385920" y="2009880"/>
            <a:ext cx="8372160" cy="28382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122400" y="2852640"/>
            <a:ext cx="1942920" cy="19447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2065320" y="278136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2484360" y="2060640"/>
            <a:ext cx="151128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4614840" y="2997360"/>
            <a:ext cx="1943280" cy="19443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6559560" y="2924280"/>
            <a:ext cx="2260440" cy="1944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6761160" y="2060640"/>
            <a:ext cx="1511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4276" descr=""/>
          <p:cNvPicPr/>
          <p:nvPr/>
        </p:nvPicPr>
        <p:blipFill>
          <a:blip r:embed="rId1"/>
          <a:stretch/>
        </p:blipFill>
        <p:spPr>
          <a:xfrm>
            <a:off x="1438200" y="1185840"/>
            <a:ext cx="6267600" cy="44863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2627280" y="24066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6084720" y="3227400"/>
            <a:ext cx="100836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2556000" y="40910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6084720" y="4956120"/>
            <a:ext cx="100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2231" descr=""/>
          <p:cNvPicPr/>
          <p:nvPr/>
        </p:nvPicPr>
        <p:blipFill>
          <a:blip r:embed="rId1"/>
          <a:stretch/>
        </p:blipFill>
        <p:spPr>
          <a:xfrm>
            <a:off x="1685880" y="1619280"/>
            <a:ext cx="5772240" cy="36194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5796000" y="188748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2268360" y="272268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5796000" y="358776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2340000" y="4494240"/>
            <a:ext cx="93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6:57:3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